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C515C-2ECB-4D5B-853B-2237A9B6D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E5A72-0FBD-4572-BED2-229EAF8A6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454E8-F9EB-4D7C-9AE6-5A854B4B1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CF0BF-6D89-4CFD-94EE-782F6044C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F87FEB-7212-43C0-9B97-266FF325E7F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160F12-FDD1-4854-B32B-A7CA986E895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EA5A48-CB81-4E5F-811C-64C6CCC6159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68F25D-F096-46F3-8C23-E70273FE981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1AFB11-633F-454B-A477-D1A07F5E217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604AF7-FD59-4073-9AB1-3D14BD16BE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3DC79C-B09A-4224-AF06-39FD8B5BDC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EF9F1-51B5-4EDC-A1F7-B83F34094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2364E9-D7EB-4912-B65A-8321E88BAD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58AFE0-D7F9-43A7-9B38-2C0C306A75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FA96F1-F429-4236-8D56-FC972EA866D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8DF1B7-1307-4468-9EBC-0200DAEC7F1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C44418-98B1-4737-9BB0-7930005D75F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6C177-DBF2-47DC-8CEA-85813566C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06788-ABA9-4DE8-A9B7-BC4BCC38A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093B1-F13C-4C3A-9A2C-43778391B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6FE2A-2F05-463A-BC5C-07528E374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2F340-9358-4B22-9E7A-C52DD80F5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3CB53-A7D2-4A24-AA9C-DE89B439C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FF55D-49AA-45C0-BAA5-2F395A64F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9E77-578D-45B5-A40F-DFB6B08005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8331E-E94B-40D0-A46B-ABD34A6475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au/imgres?imgurl=http://bp3.blogger.com/_Ssud8db3HLY/RoWEM8ldbTI/AAAAAAAAAeg/xDAXQ_i_7Gw/s400/three%2Bfingers%2Bsmall.jpg&amp;imgrefurl=http://blog.jugglingfrogs.com/2007/06/three-things-i-want-my-kids-to-refrain.html&amp;h=400&amp;w=319&amp;sz=14&amp;hl=en&amp;start=3&amp;um=1&amp;tbnid=byTNQiqdKCCh2M:&amp;tbnh=124&amp;tbnw=99&amp;prev=/images%3Fq%3Dthree%2Bfingers%26svnum%3D10%26um%3D1%26hl%3Den%26sa%3DN" TargetMode="External"/><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Tahoma"/>
              </a:rPr>
              <a:t>Trinity</a:t>
            </a:r>
            <a:endParaRPr b="0" lang="en-US" sz="5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Studies Of Relig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Bible Support – One God</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Genesis 1:1 ‘ In the beginning God create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Isaiah 45 :5 ‘ I am the Lord and there is no oth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uteronomy 6:4 ‘Hear o Israel, the Lord is o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Bible Support – Jesus is God</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t>
            </a:r>
            <a:r>
              <a:rPr b="0" lang="en-AU" sz="3200" spc="-1" strike="noStrike">
                <a:solidFill>
                  <a:srgbClr val="ffffff"/>
                </a:solidFill>
                <a:latin typeface="Tahoma"/>
              </a:rPr>
              <a:t>Whoever has seen me has seen the Father’ – John 14:9</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Word was with God and the Word was God …. The word became flesh and made his dwelling with us (John 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Tahoma"/>
              </a:rPr>
              <a:t>Bible Support - Holy Spirit is God</a:t>
            </a:r>
            <a:endParaRPr b="0" lang="en-US" sz="40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Then Peter said, "Ananias, how is it that Satan has so filled your heart that you have lied to the Holy Spirit and have kept for yourself some of the money you received for the land? 4Didn't it belong to you before it was sold? And after it was sold, wasn't the money at your disposal? What made you think of doing such a thing? You have not lied to men but to God." (Acts 5:3-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Role of Holy Spirit</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Helps us to understand God’s word:</a:t>
            </a:r>
            <a:endParaRPr b="0" lang="en-US" sz="2400" spc="-1" strike="noStrike">
              <a:solidFill>
                <a:srgbClr val="ffffff"/>
              </a:solidFill>
              <a:latin typeface="Tahoma"/>
            </a:endParaRPr>
          </a:p>
          <a:p>
            <a:pPr lvl="1" marL="713160" indent="-2743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You became imitators of us and of the Lord; in spite of severe suffering, you welcomed the message with the joy given by the Holy Spirit.</a:t>
            </a:r>
            <a:br>
              <a:rPr sz="2000"/>
            </a:br>
            <a:r>
              <a:rPr b="0" lang="en-AU" sz="2000" spc="-1" strike="noStrike">
                <a:solidFill>
                  <a:srgbClr val="ffffff"/>
                </a:solidFill>
                <a:latin typeface="Tahoma"/>
              </a:rPr>
              <a:t>(1 Thessalonians 1:6)</a:t>
            </a:r>
            <a:endParaRPr b="0" lang="en-US" sz="20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Intercedes for us in prayer:</a:t>
            </a:r>
            <a:endParaRPr b="0" lang="en-US" sz="2400" spc="-1" strike="noStrike">
              <a:solidFill>
                <a:srgbClr val="ffffff"/>
              </a:solidFill>
              <a:latin typeface="Tahoma"/>
            </a:endParaRPr>
          </a:p>
          <a:p>
            <a:pPr lvl="1" marL="713160" indent="-2743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In the same way, the Spirit helps us in our weakness. We do not know what we ought to pray for, but the Spirit himself intercedes for us with groans that words cannot express. And he who searches our hearts knows the mind of the Spirit, because the Spirit intercedes for the saints in accordance with God's will. (Romans 8:26-27)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Indivisible Unity</a:t>
            </a:r>
            <a:endParaRPr b="0" lang="en-US" sz="4400" spc="-1" strike="noStrike">
              <a:solidFill>
                <a:srgbClr val="ffffff"/>
              </a:solidFill>
              <a:latin typeface="Tahoma"/>
            </a:endParaRPr>
          </a:p>
        </p:txBody>
      </p:sp>
      <p:sp>
        <p:nvSpPr>
          <p:cNvPr id="111" name="PlaceHolder 2"/>
          <p:cNvSpPr>
            <a:spLocks noGrp="1"/>
          </p:cNvSpPr>
          <p:nvPr>
            <p:ph/>
          </p:nvPr>
        </p:nvSpPr>
        <p:spPr>
          <a:xfrm>
            <a:off x="457200" y="1628280"/>
            <a:ext cx="8362800" cy="50403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t>
            </a:r>
            <a:r>
              <a:rPr b="0" lang="en-AU" sz="3200" spc="-1" strike="noStrike">
                <a:solidFill>
                  <a:srgbClr val="ffffff"/>
                </a:solidFill>
                <a:latin typeface="Tahoma"/>
              </a:rPr>
              <a:t>I and the Father are one” John 10:30</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t>
            </a:r>
            <a:r>
              <a:rPr b="0" lang="en-AU" sz="3200" spc="-1" strike="noStrike">
                <a:solidFill>
                  <a:srgbClr val="ffffff"/>
                </a:solidFill>
                <a:latin typeface="Tahoma"/>
              </a:rPr>
              <a:t>I am in the Father and the Father is in me” - John 14:11.</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refore go and make disciples of all nations, baptizing them in the name of the Father and of the Son and of the Holy Spirit” Matthew 28:19</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Understanding the Trinity</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54824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e grace of the Lord Jesus Christ, and the love of God, and the fellowship of the Holy Spirit be with you all” 2 Corinthians 13:14</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n other words –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e pray to God the Father.</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e can only do this because he loves us and sent his son as a sacrifice for u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Our prayers are taken from us, to God, by the Holy Spirit who lives in u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Tahoma"/>
              </a:rPr>
              <a:t>Importance of the Doctrine of the Trinity</a:t>
            </a:r>
            <a:endParaRPr b="0" lang="en-US" sz="40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Jesus as Lord: Without the doctrine Jesus could be another God.</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Personal relationships: Father loves the son and gives all to the son (John 3:35), Not my will but yours be done Luke 22, I have come to do the will of the one who sent me (John 6). Spirit speaks not of itself but the acts of God. This is the relationship within the Trinity (Godhe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What is the Trinity?</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ough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The Three Sisters Katoomba"/>
          <p:cNvPicPr/>
          <p:nvPr/>
        </p:nvPicPr>
        <p:blipFill>
          <a:blip r:embed="rId2"/>
          <a:stretch/>
        </p:blipFill>
        <p:spPr>
          <a:xfrm>
            <a:off x="324000" y="260280"/>
            <a:ext cx="5760720" cy="3821040"/>
          </a:xfrm>
          <a:prstGeom prst="rect">
            <a:avLst/>
          </a:prstGeom>
          <a:ln w="0">
            <a:noFill/>
          </a:ln>
        </p:spPr>
      </p:pic>
      <p:pic>
        <p:nvPicPr>
          <p:cNvPr id="88" name="" descr=""/>
          <p:cNvPicPr/>
          <p:nvPr/>
        </p:nvPicPr>
        <p:blipFill>
          <a:blip r:embed="rId3"/>
          <a:stretch/>
        </p:blipFill>
        <p:spPr>
          <a:xfrm>
            <a:off x="6732720" y="836640"/>
            <a:ext cx="1904760" cy="1905120"/>
          </a:xfrm>
          <a:prstGeom prst="rect">
            <a:avLst/>
          </a:prstGeom>
          <a:ln w="0">
            <a:noFill/>
          </a:ln>
        </p:spPr>
      </p:pic>
      <p:pic>
        <p:nvPicPr>
          <p:cNvPr id="89" name="" descr=""/>
          <p:cNvPicPr/>
          <p:nvPr/>
        </p:nvPicPr>
        <p:blipFill>
          <a:blip r:embed="rId4"/>
          <a:stretch/>
        </p:blipFill>
        <p:spPr>
          <a:xfrm>
            <a:off x="3203640" y="4437000"/>
            <a:ext cx="3238560" cy="21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a:hlinkClick r:id="rId2"/>
          </p:cNvPr>
          <p:cNvPicPr/>
          <p:nvPr/>
        </p:nvPicPr>
        <p:blipFill>
          <a:blip r:embed="rId3"/>
          <a:stretch/>
        </p:blipFill>
        <p:spPr>
          <a:xfrm>
            <a:off x="324000" y="981000"/>
            <a:ext cx="3795480" cy="4753080"/>
          </a:xfrm>
          <a:prstGeom prst="rect">
            <a:avLst/>
          </a:prstGeom>
          <a:ln w="0">
            <a:noFill/>
          </a:ln>
        </p:spPr>
      </p:pic>
      <p:pic>
        <p:nvPicPr>
          <p:cNvPr id="91" name="" descr=""/>
          <p:cNvPicPr/>
          <p:nvPr/>
        </p:nvPicPr>
        <p:blipFill>
          <a:blip r:embed="rId4"/>
          <a:stretch/>
        </p:blipFill>
        <p:spPr>
          <a:xfrm>
            <a:off x="5365800" y="1197000"/>
            <a:ext cx="3778200" cy="4541760"/>
          </a:xfrm>
          <a:prstGeom prst="rect">
            <a:avLst/>
          </a:prstGeom>
          <a:ln w="0">
            <a:noFill/>
          </a:ln>
        </p:spPr>
      </p:pic>
      <p:sp>
        <p:nvSpPr>
          <p:cNvPr id="92" name=""/>
          <p:cNvSpPr/>
          <p:nvPr/>
        </p:nvSpPr>
        <p:spPr>
          <a:xfrm>
            <a:off x="4284720" y="2997360"/>
            <a:ext cx="792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Tahoma"/>
              </a:rPr>
              <a:t>=</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611280" y="1341360"/>
            <a:ext cx="3628800" cy="4403880"/>
          </a:xfrm>
          <a:prstGeom prst="rect">
            <a:avLst/>
          </a:prstGeom>
          <a:ln w="0">
            <a:noFill/>
          </a:ln>
        </p:spPr>
      </p:pic>
      <p:sp>
        <p:nvSpPr>
          <p:cNvPr id="94" name=""/>
          <p:cNvSpPr/>
          <p:nvPr/>
        </p:nvSpPr>
        <p:spPr>
          <a:xfrm>
            <a:off x="4643280" y="2133720"/>
            <a:ext cx="414036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3 in one stroller</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	</a:t>
            </a:r>
            <a:r>
              <a:rPr b="0" lang="en-AU" sz="2800" spc="-1" strike="noStrike">
                <a:solidFill>
                  <a:srgbClr val="ffffff"/>
                </a:solidFill>
                <a:latin typeface="Tahoma"/>
              </a:rPr>
              <a:t>- 3 wheel stroller</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	</a:t>
            </a:r>
            <a:r>
              <a:rPr b="0" lang="en-AU" sz="2800" spc="-1" strike="noStrike">
                <a:solidFill>
                  <a:srgbClr val="ffffff"/>
                </a:solidFill>
                <a:latin typeface="Tahoma"/>
              </a:rPr>
              <a:t>-push bike</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	</a:t>
            </a:r>
            <a:r>
              <a:rPr b="0" lang="en-AU" sz="2800" spc="-1" strike="noStrike">
                <a:solidFill>
                  <a:srgbClr val="ffffff"/>
                </a:solidFill>
                <a:latin typeface="Tahoma"/>
              </a:rPr>
              <a:t>-tricycle</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All for just $19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Definitions</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riun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three in one; constituting a trinity in unity, as the Godhead.</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ri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union of three persons (Father, Son, and Holy Ghost) in one Godhead, or the threefold personality of the one Divine Be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Ancient  Diagram of the trinity"/>
          <p:cNvPicPr/>
          <p:nvPr/>
        </p:nvPicPr>
        <p:blipFill>
          <a:blip r:embed="rId2"/>
          <a:stretch/>
        </p:blipFill>
        <p:spPr>
          <a:xfrm>
            <a:off x="1547640" y="598320"/>
            <a:ext cx="5977080" cy="563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1187280" y="1268280"/>
            <a:ext cx="6697800" cy="3905280"/>
          </a:xfrm>
          <a:prstGeom prst="rect">
            <a:avLst/>
          </a:prstGeom>
          <a:ln w="0">
            <a:noFill/>
          </a:ln>
        </p:spPr>
      </p:pic>
      <p:sp>
        <p:nvSpPr>
          <p:cNvPr id="99" name=""/>
          <p:cNvSpPr/>
          <p:nvPr/>
        </p:nvSpPr>
        <p:spPr>
          <a:xfrm>
            <a:off x="2484360" y="558972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Always H2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Three Gods?</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Important to note –still one God. Not three different Go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01:15:52Z</dcterms:created>
  <dc:creator>Karina Johnston</dc:creator>
  <dc:description/>
  <dc:language>en-US</dc:language>
  <cp:lastModifiedBy>Shore</cp:lastModifiedBy>
  <dcterms:modified xsi:type="dcterms:W3CDTF">2008-03-02T21:56:22Z</dcterms:modified>
  <cp:revision>5</cp:revision>
  <dc:subject/>
  <dc:title>Trinity</dc:title>
</cp:coreProperties>
</file>